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9ED-A729-4E9F-8D49-737D09FE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FA4-4F7C-4F47-B836-2137A5F6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AE7-DE4E-449C-AD17-5316ACA4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43F-42E8-48EF-8ECB-A87AF24F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04F1-582A-41F7-86B0-024C57E9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D673-C2D5-4A5E-A2E0-223107F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365B-FFFC-46EE-B67F-B56020E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44E9-69D7-4797-8D90-47783A51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9ED3-6B06-4F6B-B667-D23664E7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DB65-DE3A-4161-99E4-9026B82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BD05-EC35-4D1E-B8CC-591E8F6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45C-297E-4CD1-BDBA-8816BCBA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5F5F-0B3D-4D33-9B11-58E17CA2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5190-E139-4AC0-9110-74DC2597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3954-CF5C-495A-BBF4-6CCBB19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341E-0C7D-40D7-90D3-463FBA79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0333-E582-424C-92F1-777CF2C0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B0D-AF6D-48E7-A059-F68DF4E0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4F7-6F55-4B4D-832D-61AC2C0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028-677B-4AA0-A276-152D6D9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7C2-6AE3-46DC-8827-75A6508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28D-C840-4A68-B9AD-37AEEC4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D8C-DFAA-4D05-B16E-4D20E52D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6F7-13D7-488B-9B79-CA197C9D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9AEE-C00A-4AB4-B413-1E620A9082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7A1-E190-4E90-8B2B-9F60DBC440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35-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22; 2 Chron.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76720" y="2743200"/>
            <a:ext cx="76176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837720"/>
            <a:ext cx="213372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8580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bothered Ahab that Ramoth-gilead was no longer in Israelite contro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37339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this lesson there will be further confrontations with the Arameans over land-contr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icaiah Prophesies Against Ahab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 of Ahab’s reign – 1 Kgs.22:1-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 and Jehoshaphat make an alliance to fight the Arameans. 1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hets of Ahab assure him of victory. 5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aiah reveals a very bleak outcome for Ahab and Israel. 17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ab protests his negative preaching. 24-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icaiah Prophesies Against Ahab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d of Ahab’s reign – 1 Kgs.22:1-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yal apparel is discarded to hide Ahab’s identity. 29-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an arrow finds him and mortally wounds him. 34-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gative predictions of Elijah and Micaiah came tr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itive preaching of the false prophets had only hardened Ahab against the tr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hab’s Death and Bur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evening he d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ttle was stop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ab was brought back to Samaria and bur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loody chariot was washed at a pool of the prostit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gs licked up the bloody water (1 Kings 21: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ssons From Ah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reap what we s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influence people for truth or for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want all positive messages, we may never be willing to face important truths about our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ve behind a legacy of honor or sh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1:02Z</dcterms:created>
  <dc:creator>Terry W. Benton</dc:creator>
  <dc:description/>
  <dc:language>en-US</dc:language>
  <cp:lastModifiedBy>Frank D Vines</cp:lastModifiedBy>
  <dcterms:modified xsi:type="dcterms:W3CDTF">2005-07-29T15:48:34Z</dcterms:modified>
  <cp:revision>2</cp:revision>
  <dc:subject/>
  <dc:title>Till There Was No Remedy (The Divided Kingdom)</dc:title>
</cp:coreProperties>
</file>